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0B1-9AB9-4E91-BD83-A8386D8A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9F4-1AA8-468E-8FB5-0BF49940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3C7-3562-4708-8BF4-1E40B644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8AD-07A5-4316-85F3-8295D903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265D-C134-4DCD-A859-380B0EAE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CD7D-9764-4512-A140-F9C3D5A4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1F44-F8EA-4879-8AA5-CB3CD4A0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DA8F-BB62-4166-8234-40E1C519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4EB9-13D8-48CC-A48B-288F0D88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3B9D-D24A-4887-835D-287BD85A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0262-D617-4D07-A25E-6DC53D7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392-2A6E-4376-AE85-D9DAA6C5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D97D-37AA-4717-9B6C-E55C7AC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24A2-1B8D-405C-ADF5-5FC06E42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8684-B7FD-41F7-9377-C7C5FEFD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FECA-E5CB-4D59-BDF3-F3255CB7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D035-195E-4C0C-9AD6-58F1FA92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BF66-B321-4981-86D8-74AEE096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2D9B-6A90-4382-B4CC-6D410776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EC7E-B392-49ED-B82A-089DDD61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1A8F-AE7B-400E-A1BB-1C698B47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941F0-950F-4574-A9A8-A7D89A17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9E5-CA0D-4655-9399-5155C2C0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9B9D-C1D5-48AA-A1FD-93932BEB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F34D-BCEB-4E66-BF52-7733FAA8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B052-0E1F-4A04-8BB0-CB6082B6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7AB3-AEA8-497F-A7F4-A07BCD45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2E00E-E56E-42E5-A408-2CA099E8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37D1-3DA9-49BD-86CB-3CF4AB97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C039B-C224-4322-B558-9EB36A6F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6F0F8-9B87-4CDC-8700-7FE5AC70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5D2C2-4B1C-43E1-BBE6-D725A7D8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074AB-7D1E-44C0-B71D-DF5E7960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FC1-3A50-4FB9-9428-9DBDDBAD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9953D-7E61-4EA3-B737-956713F3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9E690-C57D-4343-ACC9-6C848FC3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B2355-9C36-4E79-9CE3-BF06A056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E3D8A4-20D4-4D5C-B115-883840A8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6F1C8-A971-4782-BEE3-18743F05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C9441-E905-4143-B305-F108B7E7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1400C5-6215-499B-ADC9-82228E3E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2B4D7C-22D6-44A0-8198-7876EBE0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9F223-0A25-40E2-81DD-B1C43DFC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E0342-E1A3-4814-A7AE-41959F4E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98E-0022-429B-AD47-E6CFEF83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55E41-3FA4-4005-A2C4-560DBCDC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CE621-B868-4AA8-AC8E-3D4554D3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2F326-DF18-4A20-94AF-9F71E715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ADA42-B5D4-40DF-9C10-E35FE672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FE1D5-1A54-492C-8904-AE359A17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609A3-1C75-4F3E-9E0C-8EF5BB04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457F1-4AD1-4BC4-8B0E-1D4540EF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F7169-ECB9-4F3E-923A-84B88FD3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4BBCA-9244-480D-8D0D-E6A9023F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6185D-FE30-4D6F-BA42-6F4B4A3F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B9E-B2A1-423A-BED0-1B7387BC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10686-E7F7-44A0-A2D1-9F720C01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32C5C-BF22-4C6F-B484-0F165ECD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F3B15-CC60-49F0-B036-E9C8A7A5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B0069-27F9-47F0-A892-5B4C2FC3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FFCC5-BBAD-4F5B-B9CA-385685CB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29C5B-E2C3-453F-A4C5-84505F3E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398DB-4B6A-4CB9-8F79-51304639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778CC-92BD-4106-904F-6665B6D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44828-1F5E-4224-ABD6-A9F96815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D3D06-BF58-4A76-8FFB-BB7C596D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2F8-5EF6-4D45-A4E2-7521EDBB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1ABAF-E4F4-4444-BFBD-19520DD4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D1D4D-EE66-46A0-88DA-3F185916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0F87D-1DA2-47D9-96D5-3CC12CD8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77D-261F-489D-AC0C-AE3A5025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A55-2F9C-4512-8ACB-BCAD2628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5325-70FD-4E92-8330-6D62CAB80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A77B-9933-491E-9BDE-CF6355C0E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D14F-CAA7-4D87-B7A2-A654D5661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CC80-7CFC-491D-B93D-620485307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C838-8E84-4AE3-8F92-E25AF63515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D647-1EC2-40AF-A567-0664115D17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flashnewstoday.com/wp-content/uploads/2010/07/polluted-water.jpg&amp;imgrefurl=http://flashnewstoday.com/index.php/waters-of-polluted-chinese-river-to-reach-russian-border-on-august-4/&amp;usg=__hneDgzLApoKgkG5f5aR_mS5NOzo=&amp;h=340&amp;w=600&amp;sz=81&amp;hl=en&amp;start=8&amp;sig2=F7Vsr7MY-NTDbUZZ1MiwxQ&amp;zoom=1&amp;itbs=1&amp;tbnid=3nFknu0dj6_ZXM:&amp;tbnh=77&amp;tbnw=135&amp;prev=/images%3Fq%3Dpolluted%2Brivers%2Bin%2Brussia%26hl%3Den%26safe%3Dactive%26gbv%3D2%26tbs%3Disch:1&amp;ei=BnoHTcX_BeqynAfynIjgDQ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viron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hael and Jim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Pollution in Russia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past, the Soviet Union trained their army without caring about the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xic waste in ri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sticides and heavy metals poisoned so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il spills happened a lot but they were never cleaned 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dioactive waste in rivers and s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p water is dirty because it comes from polluted ri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al-burning factories release chemicals into the ai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90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971800" cy="2438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80880" y="27885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al-burning factories in 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733920" y="3961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irds in Russia dying from oil sp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80880" y="5743800"/>
            <a:ext cx="289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Abandoned houses on Techa River in Russia, severely contaminated by toxic was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581280" y="4495680"/>
            <a:ext cx="3743280" cy="20574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315200" y="4572000"/>
            <a:ext cx="144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ctories release chemicals into the air, which is bad for the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eaning Efforts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tle money to help with the cleaning eff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ess is s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are working on solutions- planted trees, research on household detergents that help polluted ri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ing to clean up Lake Baikal, the world’s most ancient l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88620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57200" y="30474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ikal Seal, the lake’s top predator, could be harmed by polluted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4286160" cy="3505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267080" y="396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ussian workers clean up an oil spill in the Black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3581280" cy="2514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191120" y="5410080"/>
            <a:ext cx="31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Paper mill that has been polluting Lake Baikal for over 40 years is being shut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Affect on People and Animals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56840" y="1980720"/>
            <a:ext cx="4040280" cy="19875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56840" y="4106520"/>
            <a:ext cx="4040280" cy="1989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live in environmental wastelands created by past gener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ndangered animals because their habitat is being destroyed, such as blue whales, tigers, snow leopards, and sea ot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457200" y="388620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40384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22:49Z</dcterms:created>
  <dc:creator> </dc:creator>
  <dc:description/>
  <dc:language>en-US</dc:language>
  <cp:lastModifiedBy> </cp:lastModifiedBy>
  <dcterms:modified xsi:type="dcterms:W3CDTF">2010-12-20T14:15:10Z</dcterms:modified>
  <cp:revision>9</cp:revision>
  <dc:subject/>
  <dc:title>Environment</dc:title>
</cp:coreProperties>
</file>